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8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9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CDAA-26B6-49D9-A483-5F34153F9406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C3B0-DAB0-456A-88D0-860B6B6147FA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921CF78E-5E47-48F7-AB10-E04D61CE975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756480" y="6602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" name="Text Box 19"/>
          <p:cNvSpPr/>
          <p:nvPr/>
        </p:nvSpPr>
        <p:spPr>
          <a:xfrm>
            <a:off x="7893000" y="660240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52BB922F-3190-498D-A6D1-9520AF60F59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" name="Picture 23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65040" y="6600600"/>
            <a:ext cx="2895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As at: 21/09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Grafik 16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53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7421413F-43B1-46A4-BB3E-1964C4555779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F6F98628-9D64-4C65-8EB2-84ADCC744A11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42B0-8C51-4CA8-BE79-7172D5D1DABC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1AEB06A8-09D2-45BB-8B75-957044BDC71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1" name="Picture 20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6" name="Picture 20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47" name="Grafik 27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afik 27" descr="gizlogo-standard-rgb.gif"/>
          <p:cNvPicPr/>
          <p:nvPr/>
        </p:nvPicPr>
        <p:blipFill>
          <a:blip r:embed="rId2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Planned activity by GIZ co-financed by EU and 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 is to re-establish (after the flood disaster) and improve competitiveness of selected business locations and SMEs.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Initial phase of 12 month: 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Recovery support (provision of 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grants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 to selected SMEs of the wood, metal and agribusiness sector to compensate damages &amp; losse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 Areas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ening of municipal management capacities (LED schools, implement modern public management method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ing Public Private Dialogue (implement dialogue platforms, boost marked oriented and demand-driven development of local economie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Chain development (promote value chains and the use of innovative technology)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million € /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me: ~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 – 2017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additional Municipalities: tbd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4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Ongoing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rogramme for Local Self-Government and Economic Development in BiH (ProLocal)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bjective: The competitiveness of selected business locations and their SMEs is improved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 Areas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en management capacities of 10 municipalities to support economic development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peration between the public and the private sectors to strengthen competitiveness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inclusive business models along value chains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dget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llio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€ /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m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January 2013 – December 2015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Municipaliti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ozarska Dubica, Srbac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Gradiška, Laktaši, Teslić, Tešanj, Žepče, Jablanica, Konjic, Prozor-Rama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32:57Z</dcterms:created>
  <dc:creator>Michael Gajo</dc:creator>
  <dc:description/>
  <cp:keywords>GIZ-Leerfolie</cp:keywords>
  <dc:language>en-US</dc:language>
  <cp:lastModifiedBy>operater</cp:lastModifiedBy>
  <cp:lastPrinted>2005-12-21T12:33:01Z</cp:lastPrinted>
  <dcterms:modified xsi:type="dcterms:W3CDTF">2014-10-09T14:04:20Z</dcterms:modified>
  <cp:revision>768</cp:revision>
  <dc:subject/>
  <dc:title>Folie 1</dc:title>
</cp:coreProperties>
</file>